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D0E-D08D-4B39-9D3E-2F01E8AD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FBA-6180-4115-BC11-DDC36F54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1B8-E1DB-4C80-83F5-95EE45A2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5F2-3E26-4965-813C-DE419507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3CB-6EE4-4BCC-A833-F96CC111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636-9BFB-43E8-8F80-1C6FE9E3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FFC-4871-4F30-A52F-719DEC5B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DEF-71C3-44AD-B3AF-6B07588B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0A2-1471-420E-898E-E03BAED6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83B-66EB-4DA8-9471-5F1C39D8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441-4922-4D71-B8E3-A773FF3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E0F-E992-453F-B002-B5428C0D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345B-B5A4-4CF2-A821-5DA086393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SPESIFIKASI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AT DETEKSI RISIKO IBU HAM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SIFIKASI ALAT RAPID TEST (HB SAHLI) PELAYANAN ANTENATAL YANG DIBUTUH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at Gluko-Protein U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parameter meliputi Ph, glucose, dan pro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li pemeriksaa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Kehami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ntuk carik cel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ip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olongan Dara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agen Anti A, B, AB, dan Rh 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 golongan Darah sebanyak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Hb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ode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Sah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ge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erupa HCl 0,1N sebanya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utoclick devi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Stainless Stee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arum lancet (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4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biji) (disesuaikan dengan sasaran ibu hamil di desa dalam 1 tahun dimana masing-masing ibu hamil diperiksa 2 kali selama kehamilan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uku Petunjuk Teknis Penggunaan Alat Rapid Tes Pelayanan Antenatal bagi Bid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2:20:18Z</dcterms:created>
  <dc:creator>User</dc:creator>
  <dc:description/>
  <dc:language>en-US</dc:language>
  <cp:lastModifiedBy>LENOVO</cp:lastModifiedBy>
  <dcterms:modified xsi:type="dcterms:W3CDTF">2015-02-16T03:20:01Z</dcterms:modified>
  <cp:revision>28</cp:revision>
  <dc:subject/>
  <dc:title>DAFTAR KEBUTUHAN RAPID TES PELAYANAN ANTENATAL TAHUN 2015 (VERSI 65 M)</dc:title>
</cp:coreProperties>
</file>